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2450-AC44-42F2-8CB9-6286C3FC3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FF61-2C5E-415B-B35E-244E0FDF0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EED1-7DFF-411B-BEED-7860D9041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9B84-0757-43EF-B0F7-77FB0286F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5E0-6D38-4BDC-B648-4889FF6E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A040-504B-422A-AFD7-4483D6D9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060-E174-4462-B05E-AB7D5068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299-6C20-4683-B629-AF125A32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1A26-2EF4-49EE-9DB4-D86C7910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309A-9E19-4565-B8C1-C75A1531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D23E-8C09-4C37-9C0D-A20A6965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DF86-C721-4014-9E32-83365602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24BC-AD97-42EF-BE49-2D03DBB2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9586-154D-4E32-9BB7-408C2206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A52A-D62A-4A56-98B6-F052C643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BFE-FF3B-44AD-872F-D401A2C7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8142-7009-4BD3-B620-ABA1A7E9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D67D-3C64-467A-AD7C-D9B2A1B2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CDF2-FBC2-405A-B90A-06B5529B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DBFA-D4B5-43C0-BF97-8E35B67A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2522-0057-450F-B817-DCDF2D2E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FF0-EB04-48AD-B076-50D8B70A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71A-852D-442E-B86E-7588F9C2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DEC-C65B-475A-9215-A5D9095D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DCC-0008-4345-801C-37465457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D24-5435-4B46-B855-8052F965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FF2-5EBC-45E7-9913-5D89BCAD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565-3C89-4049-BB51-90DE1C74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20CC-01BA-4171-BD21-26ADF3EF5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96D0-BFF2-4398-9F5B-9FA93A85D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um ne influenteaza televiziunea viata de zi cu zi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13" descr="j0078625"/>
          <p:cNvPicPr/>
          <p:nvPr/>
        </p:nvPicPr>
        <p:blipFill>
          <a:blip r:embed="rId1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4"/>
          <p:cNvSpPr/>
          <p:nvPr/>
        </p:nvSpPr>
        <p:spPr>
          <a:xfrm>
            <a:off x="5715000" y="2895480"/>
            <a:ext cx="2209680" cy="1524240"/>
          </a:xfrm>
          <a:prstGeom prst="cloudCallout">
            <a:avLst>
              <a:gd name="adj1" fmla="val -94972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télévisionS en Fr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despre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urile TV din Fra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309680"/>
          <a:ext cx="8077320" cy="559440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aînes de télévision: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F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6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t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2 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3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V5MOND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l est le programme le plus intéressan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quelle heure passent les programmes éducatif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39" descr="j0078625"/>
          <p:cNvPicPr/>
          <p:nvPr/>
        </p:nvPicPr>
        <p:blipFill>
          <a:blip r:embed="rId1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spre utilitatea unui post TV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bog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ţ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rea vocabularului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limba francez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600200"/>
          <a:ext cx="8077320" cy="528948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26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Les programmes commencent plus tôt et ils sont plus culturels et plus récréatif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A quelle heure est diffuser la </a:t>
                      </a: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premièr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emissio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Quel est le plus regard</a:t>
                      </a: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è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cha</a:t>
                      </a: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îne de télévisio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Quell este le plus regardè film sur le chaîne respectivemen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49" descr="j0078625"/>
          <p:cNvPicPr/>
          <p:nvPr/>
        </p:nvPicPr>
        <p:blipFill>
          <a:blip r:embed="rId1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Adi</cp:lastModifiedBy>
  <dcterms:modified xsi:type="dcterms:W3CDTF">2011-10-27T16:51:40Z</dcterms:modified>
  <cp:revision>21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